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C07-4CCD-4606-8622-958AA6BC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772-26B7-4625-8503-9D694211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37F-30F7-4C1A-9388-AE7C15B8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99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316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509-4A1B-4FCB-AA12-AB350219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2E97-14DA-4E16-8E53-63B7B1C9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352C-E1D0-4F5F-9C2D-5BCE0D8B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258C-BA1C-49BE-B098-5A1E5BD6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41FE-4E64-497B-A188-A432926D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2D33-BA53-4FE5-91C1-AD7E52B8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5DF7-57FD-4B09-8C61-CC8125C1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CFBA-29ED-41DA-8080-09BA2A66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3B7-799F-47DF-B28C-0161177A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E342-19FA-4B38-903A-E6F2BE8B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A340-CD49-469B-BA74-0B503EB0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066E-5FF2-49FF-B9B4-5E85C5C2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E9ED-199D-4760-8FAD-E32A27AA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799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9316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6377-A33D-4976-B9B5-A2F35F0C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6B8-CCDC-489B-9B04-601C3861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79C-B6E5-479C-B023-FED41AD0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B07-10BB-4208-945A-0148D5A2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FF3-66D0-4D5A-A32C-E83EAB6B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10B-55DC-41D0-8D73-1F6F6BE1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25C-A2AA-4B78-8C4F-9E0765EC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CEA-242D-493E-A881-080D5432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6CEA-590B-4199-A7FC-DFABDF81A1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C8F5-718B-4A16-8222-5C9CDB78C8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 H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Editing Out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s:  Intro’s and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 w/ es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o-No’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8377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nce the beginning of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racism has been a proble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ence is everyw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ting sentence spa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sm is morally wrong.  People who are racist are bad.  I know some racist people and they are bad.  Most bad people are racist and they end up in j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otes:  Conclu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/26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utline: 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ate 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 Main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rategi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96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ho the in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the way you 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llenging the rea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them feel like they need to do some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ing to the futur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description of what will happ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e a ques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it is a thought provoking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ose a course of action, a solution to an issue, or questions for further stud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ip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"So What?"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your readers that your paper was meaningful and use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thesize, don't summari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your final thoughts, not summ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irect your read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all this connect to readers and their responsibiliti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 No-No’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8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verused phrases:  "in conclusion," "in summary," or "in closing."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8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ating the thesis for the very first time in the conclusion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8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New main idea or quot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8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aking emotional appe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py HW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tomorr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outline due (revised Thesis + Bod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utline 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3 parts to the the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ain ideas are listed in the bod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main ideas match the thesis?  Exp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visions does the body ne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Notes: Introductions &amp; Conclusion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/25/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utline: Introdu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is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roduction Strategies (SSQQ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ought provoking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yes/no ques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details, dialogue, s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ed Data,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ful QU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ip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IMILES and METAPH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 to the senses with SENSORY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IFY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mple Introdu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trategy is u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ckground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’s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1:45:56Z</dcterms:created>
  <dc:creator>Vicky Tucker</dc:creator>
  <dc:description/>
  <dc:language>en-US</dc:language>
  <cp:lastModifiedBy>Tucker</cp:lastModifiedBy>
  <dcterms:modified xsi:type="dcterms:W3CDTF">2010-05-25T22:03:06Z</dcterms:modified>
  <cp:revision>6</cp:revision>
  <dc:subject/>
  <dc:title>10th Grade Writing</dc:title>
</cp:coreProperties>
</file>